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606-8673-412E-8619-D5B55BD1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E11-F96B-4B2C-88ED-E0C6B86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456-3B15-4B51-94A6-26E6B055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D34-379E-40FA-A24B-37CB4836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9A9-67AD-4F52-90F8-286A9454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226-D9E6-4D35-B623-7C5F7BC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198-6F4D-4260-AFBF-C36A00F6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159-8C8A-4854-BEAF-0800EC71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9F3-3DC1-4B96-831F-FCE604A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7F9-DD22-4C15-B417-FE8476D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594-100C-446E-B967-CE3211B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A77-4B6D-48E4-B3DD-A5A891C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DE0-F8F9-49C3-8BB3-2C3973E94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61624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Example- part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with Sever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trol Variab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30492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5335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8989"/>
          <a:stretch/>
        </p:blipFill>
        <p:spPr>
          <a:xfrm>
            <a:off x="457200" y="457200"/>
            <a:ext cx="807732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792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304920"/>
            <a:ext cx="79246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609480"/>
            <a:ext cx="739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533520" y="304920"/>
            <a:ext cx="800100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784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9146"/>
          <a:stretch/>
        </p:blipFill>
        <p:spPr>
          <a:xfrm>
            <a:off x="457200" y="228600"/>
            <a:ext cx="815328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815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79146"/>
          <a:stretch/>
        </p:blipFill>
        <p:spPr>
          <a:xfrm>
            <a:off x="990720" y="914400"/>
            <a:ext cx="731520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34447" r="0" b="20866"/>
          <a:stretch/>
        </p:blipFill>
        <p:spPr>
          <a:xfrm>
            <a:off x="990720" y="1981080"/>
            <a:ext cx="731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2584" r="0" b="47928"/>
          <a:stretch/>
        </p:blipFill>
        <p:spPr>
          <a:xfrm>
            <a:off x="533520" y="2514600"/>
            <a:ext cx="79246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533520" y="1143000"/>
            <a:ext cx="79246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62485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52084" r="0" b="38415"/>
          <a:stretch/>
        </p:blipFill>
        <p:spPr>
          <a:xfrm>
            <a:off x="457200" y="2590920"/>
            <a:ext cx="78487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457200" y="1143000"/>
            <a:ext cx="784872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7620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2236" r="0" b="27638"/>
          <a:stretch/>
        </p:blipFill>
        <p:spPr>
          <a:xfrm>
            <a:off x="762120" y="12952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762120" y="3049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746748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565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76720" y="4191120"/>
            <a:ext cx="246384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6095880" y="4191120"/>
            <a:ext cx="245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19239"/>
          <a:stretch/>
        </p:blipFill>
        <p:spPr>
          <a:xfrm>
            <a:off x="1219320" y="533520"/>
            <a:ext cx="6933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19239"/>
          <a:stretch/>
        </p:blipFill>
        <p:spPr>
          <a:xfrm>
            <a:off x="609480" y="304920"/>
            <a:ext cx="784872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34320" y="5638680"/>
            <a:ext cx="1295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0996"/>
          <a:stretch/>
        </p:blipFill>
        <p:spPr>
          <a:xfrm>
            <a:off x="914400" y="838080"/>
            <a:ext cx="73152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46564" r="0" b="15697"/>
          <a:stretch/>
        </p:blipFill>
        <p:spPr>
          <a:xfrm>
            <a:off x="914400" y="3200400"/>
            <a:ext cx="731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56465" r="0" b="32257"/>
          <a:stretch/>
        </p:blipFill>
        <p:spPr>
          <a:xfrm>
            <a:off x="533520" y="3733920"/>
            <a:ext cx="761976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0" b="61422"/>
          <a:stretch/>
        </p:blipFill>
        <p:spPr>
          <a:xfrm>
            <a:off x="533520" y="685800"/>
            <a:ext cx="761976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68031" r="0" b="21167"/>
          <a:stretch/>
        </p:blipFill>
        <p:spPr>
          <a:xfrm>
            <a:off x="685800" y="3124080"/>
            <a:ext cx="762012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0" b="61422"/>
          <a:stretch/>
        </p:blipFill>
        <p:spPr>
          <a:xfrm>
            <a:off x="685800" y="380880"/>
            <a:ext cx="762012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8703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685800"/>
            <a:ext cx="792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09480" y="304920"/>
            <a:ext cx="792504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7925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06668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2:26:12Z</dcterms:modified>
  <cp:revision>219</cp:revision>
  <dc:subject/>
  <dc:title>Slide 1</dc:title>
</cp:coreProperties>
</file>